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6.pct" ContentType="image/x-pict"/>
  <Override PartName="/ppt/media/image10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4.jpeg" ContentType="image/jpeg"/>
  <Override PartName="/ppt/media/image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6D4C-E11F-474D-9E60-6F5E726C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boutdarwin.com/voyage/voyage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383-0041-42A2-A8A7-6A8B20CA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C52-8270-436D-8391-407D07DB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1EF-CCB2-4695-9AD6-D9C4B8CA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A9C-D258-48D3-B2D7-122A2524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140-E6CD-461E-9664-1D3CFE48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049-C54C-436A-B13E-C0924206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3FB-254B-4936-8527-4105836B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C39-7C09-448C-8AB0-B29631CC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C1E-7C97-4CC8-8CD7-A60900BB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C02-D8A4-42A4-8834-D0C5CD3C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C48-21E4-4D4B-A685-154436C9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4B3-5442-4A0D-A664-B282C414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9D68-73F8-4A17-8B66-D203723D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mphlbRhLu8&amp;index=2&amp;list=PL5270149AB732F0FB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jpe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arwin Sa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Evidence for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 &amp; 7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d mechanisms of artificial selection (pigeon breed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939000" y="2438280"/>
            <a:ext cx="1900080" cy="3962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43434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althu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say                      on the Principle of                   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7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3003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th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eneration, populations produce more offspring than there are ad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 do not continue to grow in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nd many other resources are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S Evolution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Charles Darw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vmphlbRhLu8&amp;index=2&amp;list=PL5270149AB732F0F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MS Bea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Darwin embarked on the second voyage of the HMS Beagle on December 27,1831, on a survey expedition under the command of Captain Robert Fitzr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purpose of the expedition was to map out the southern coast of South America, and Darwin was on board as a geologist, to collect specim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290600"/>
            <a:ext cx="8458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arwin S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flora &amp; fauna (plants &amp; animals) on the Galapagos as on mainl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895840" cy="1812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86200" y="3048120"/>
            <a:ext cx="215892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2098440" cy="231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548640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arwin Saw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stinct species of finches and mocking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3146400" cy="3733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7242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ssil recor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ptodon (like the armadil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atherium (like the sl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73356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2286000" cy="181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349720" cy="189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934320" y="4648320"/>
            <a:ext cx="16761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ous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344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ous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4572000" cy="227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5816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tigial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581640" cy="3438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40384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6:28:46Z</dcterms:created>
  <dc:creator>rubina khan</dc:creator>
  <dc:description/>
  <dc:language>en-US</dc:language>
  <cp:lastModifiedBy>rubina khan</cp:lastModifiedBy>
  <dcterms:modified xsi:type="dcterms:W3CDTF">2015-05-25T12:51:05Z</dcterms:modified>
  <cp:revision>33</cp:revision>
  <dc:subject/>
  <dc:title>PowerPoint Presentation</dc:title>
</cp:coreProperties>
</file>